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FF32-5809-4209-AACA-01AF4F020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9050-5A05-436F-8DF6-E7E6B6A76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5E77-5B9E-42DE-A62F-E22AC41B3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C71F-DDE2-487B-9999-07EF2527B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8823-892D-47D6-94C0-3DECB68D2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DF1F-9C77-4E30-B5E7-26C1C110E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08F0-9919-4ECF-B82A-786A6E800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F8BC-642B-4C67-8500-AF4D358D7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21E7-D089-4D17-AB09-00BFE4179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8CB4-937C-4F4E-A569-E312B0314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0DC9-C647-4711-8543-4B04DAD96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4203-6D05-445D-8A67-6B9A9FD66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71C2-33CD-4E8A-AA22-F7791890F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4501-D0E7-471C-A3E4-EE5A4691F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96B9-CFF0-43C8-AD2D-382EE48DB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8247-6105-402F-956D-B86DD4288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06FBC-1E7C-4807-A731-99F88667F5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C9AA6-CCF9-406E-B46E-B6C0424A0CE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25F7A-38A5-4C13-9CF5-A755F5A9381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D919A-AFC1-42AA-B6F4-4EC6089680B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390FF-E9A9-45A5-A66E-F8E7494F287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761F3-4D19-4EEE-89A8-F097987DE51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F52F4-BE18-47E5-902E-0CE9704383D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E19DB-44FF-4D8C-B56E-8BDB4FF65EF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306B3-4717-4D1C-B849-4465CD4F89D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825E0-B226-45D8-A1F2-DFAEF0FE0F9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E252D-8E10-4F46-8283-48BC0BC24FC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A1EC44-763D-4057-BEC4-621AFFB8E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90FBB-44DF-4E07-BF02-9847C58069F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229F6C-C482-460C-94F0-CD877FDAD69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3C71BF-55CA-47CD-911E-D618A66400B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AA3641-EE1A-46E3-9FA1-630B7AA6145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57B829-20FB-4DBF-8D94-A4DFD24A63A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897C7B-C98F-4019-B54F-B2F7CDCD39C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B4E369-E7FC-4786-B610-63468A7D9E7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CF1C09-F51C-4E41-BE38-3CC4CBD1B69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59418E-A8CE-407E-88CF-A0558AD1570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BBD8F0-880F-4872-BC72-EA956B741ED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36E353-BB87-4F61-BB5B-7685ACF2E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7F469-BF8B-4550-831D-FADFACE0EFF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B4C0B6-7D1F-4767-BBBA-48F9E4629D2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494055-E6FF-419F-A4CD-C75A390BE8E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EBE889-B8E5-4802-A5E1-371FDABCED4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ED58CE-D76B-42B9-9190-AB7727D5283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5AE151-FED3-4829-B4AB-CF8D13AFF26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3BE928-E7F4-4AC5-9EE4-B78BE98FCE1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37267C-6D18-46E1-B996-CF1A791BDD7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B99E8A-1645-4A42-A2A0-FA1F14207E7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26FF72-7F8D-4106-BCD4-8AC6B8F0B24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E34B5F-4320-448D-9F8C-C07D9E2B7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BEBA3-5436-4426-8D80-172EF8639AD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5BBD53-5E6F-4591-893D-DF2B25BC203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522692-114C-4D21-85F1-15E1E044606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6F3734-65A2-443B-BD57-7BFC37A786A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B4F71-E22A-4362-9A9F-24864EE11E7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37E74-2E77-45B4-9954-3CAE20E7816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2E671-C4CB-4EB6-8DA8-8E2FA2D614C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24F01-175B-4452-A410-EC47002A7D5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3DC78-C8BC-419C-BC83-3875C60DDFA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04F45-EDE7-49BF-89F2-63C4C80C79E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A4622-637F-46A2-9C0F-C8DB33ED6B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27626-5C43-4B5C-9559-E81AB2EDB93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7D3DD-3709-476B-A255-46A888E047A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3FD8F-AAAA-40EF-8D7F-F334042FAA8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5C5BC-D007-4427-A254-1C8EE6AA095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1BAC7-743E-425C-A35B-584B85C0807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D1C10-6EDF-4228-9938-7C84C54198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1B728-7064-4FBC-824B-667B0FD5C8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0B4CB-9D6A-4715-A240-1D405BC238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6881C-0E06-41BA-A658-B956D7592C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8715C-1548-4747-8677-BA9E7B39B7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B5E6C-3E62-4082-BD58-FFDEB9DB5B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69411-BB54-4CA5-806E-0010DED84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81FF5-2A0E-4F5D-A860-9A611B8B27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6EED8-979F-49FA-89F6-A8D30C8073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130FA-C230-428E-B892-E7C78CBB7B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BAA78-6B96-4917-8C67-3F1F7DEA48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C0C82-9B06-4D1B-9C7B-D5DBCBF1E5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5430-E394-46C8-B4FE-B9A6C0A806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C7EB-16FE-4B3F-A334-07B7ECEBE5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5D66-E9E0-4BF1-A058-C80BE6022C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E1E5-9405-493A-9487-46E725249A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8631-7572-4779-A31D-544EA3B8AD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12855-D4B2-4A46-BCFD-48BC2123EE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ABFA-2BFA-4DF3-A453-6C6B3ED6D2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B189-D3F6-414D-8E6C-DE7FAB18F9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B58F-36DB-42FB-A800-2A01C426EC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8668-9693-45FC-8BF7-8BF8EEF05B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B53F-4A5E-4B12-9EC9-5097EBACFF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8AFE-827E-4CA3-A888-34434625BD6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C875-D8BF-432E-AE7F-E13C826FDE2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78914-396C-4D2F-ACFC-503111E6276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71CAD-B9E1-41C7-8B8A-5933FD69920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DF4DA-1F18-46C1-889C-6CA5CD9B1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FEB4D-BB17-4674-A31C-7A8A5D2B1C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75726-204D-4F26-B86E-CDFAA47223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FD44E6-A117-4B23-AC24-011A56353F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EA6BF-8CF2-4B53-9E2E-D18CFA0C7AB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D74C7F-F255-4324-9688-9B92451302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8F960-8890-471C-8679-A6AB2C0356F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55D45-0098-4626-AFFC-9EA61823116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BDE1A-F61F-4DEC-9AA3-965B061545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786783-362A-4391-A04D-EE98B74201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1426C-05A4-4086-9709-8E17A6C12BE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ED989A-B2C8-4FB9-856E-9F528C891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47F2D-85D4-42CA-AF84-A335C07C7AB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4E6D0F-771A-4CE9-A1C4-F439F1509F4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A10CA5-A852-4384-BB98-966FC50BAD0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CB8D29-17D8-4112-981E-307BC34D3A4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9FD7D0-3E08-4B11-9134-F539D9DD9B3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298CD3-CB99-4F95-8B2E-A3A5965221B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E3E347-11AA-4C65-9A26-ECAA669BABE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C1078A-F15E-4CD0-B525-8B872EC1529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45C15E-7ED5-4161-B8EF-952CFB54224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591DDD-F544-421C-A850-E275BF6BE01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B13154-0EF5-4486-806C-A403BF80A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1D8F2-9614-40E8-9835-784E6ACABFA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892D49-9740-4CDA-8A8D-33C35B96518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15A78-3106-4283-9CF9-7BD07E9B8F6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C6122-7B02-41DC-91AF-1E8A643C930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FB998-84FB-45DE-AFD2-DED074D2A7A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1E389-5038-4F5C-B89B-089B619ECC2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2FCDF-1C61-4999-988A-2BBBBECA3DF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18E0C-8EBC-4022-A6AB-B9679A85452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CE794-BC95-4AB1-BB6C-BE4888A4133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BD086-6358-477E-A33B-7A0FB40074A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5027E-E1B5-46F9-A069-4166DE7C2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D52F1-3A9A-4229-AB75-180EC69927B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7CBD6-3B55-4CC8-9DA9-59386FD9DAE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C97DE-DF18-44E6-AD12-14DF5C06D7D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F0468-7DCC-4A58-AC4F-23046772018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8F56B0-734B-43EE-9331-028793DA867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EEC989-91B3-4E0F-AE9D-3350B6D2AC9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59599E-8191-4877-8C87-0BDB00A6EAB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40C583-E9FA-4B02-ACF6-92C9F061B98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ACDFFC-AE22-45F8-9FA4-3AC5D512BAE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9CD586-54AF-4BED-AEF3-4665C385EC3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7455B-7165-4F7E-B20F-F43B8B6D5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7E546-0C0B-4530-BAFD-5E88F53C99B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B21CC2-8A3B-4AF0-B834-E5C395D8BE1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834FD-B5D2-4B43-8145-551F671BC10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5820F3-2DBE-4ECC-BD53-6E004615AFA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EB267E-2452-4246-B2DF-6CFEBD6C4E0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F30C5A-62BD-45D0-BDD0-0A8DF4D2A76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A9EB07-FEDD-4898-8C34-2104F31BC6E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65795E-0A9D-4CFA-87AC-E89CB9B6D36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6FF7EF-FD2B-461E-89A1-5765D40E376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3E2658-7E0C-4AA4-9B19-8B95EC1A4E5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993A72-5E07-4C23-BF65-730FBE72E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3E2D6-9C96-4AA5-912F-BB7714FF97E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C81554-2610-4709-B72B-EAD8120EAF5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2690D4-FBFA-4AA1-94E3-A78E40517A6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1F73D2-3D35-4544-8F02-74A00DC1B44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80A627-38D8-42FC-8588-ADC610E1038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8C97F6-4779-4AEE-B1E2-900B6AA0BB9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434A0A-1D30-47B5-8BA6-0F89ED8DBAA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81DF13-A918-4824-BCBD-2BEDB57ACA5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94FA2-D1C3-43F1-955B-2C755C21AD3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5A7B7-C710-4C5D-BC59-19B66A43CA2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0E879-62F6-4013-96E4-B7995E01C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3-</a:t>
            </a:r>
            <a:fld id="{F6C26191-4E60-41CA-8F0F-40D63BF5A5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c01l03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c01l03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ftr" idx="19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3-</a:t>
            </a:r>
            <a:fld id="{D91FCF0E-E7CE-4362-B70B-D8C9383602C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c01l03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ftr" idx="2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3-</a:t>
            </a:r>
            <a:fld id="{0DD9834B-09C6-47F4-8A4E-28E34D85D7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c01l03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ftr" idx="2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3-</a:t>
            </a:r>
            <a:fld id="{D447EF5B-8F2B-4973-B9F6-1FE1A2C39B1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c01l03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3-</a:t>
            </a:r>
            <a:fld id="{5EDD74EB-17E1-4EBB-9833-54D2EF061AC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c01l03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3-</a:t>
            </a:r>
            <a:fld id="{37EB3C85-9F06-4559-9F4E-8D28F70B32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c01l03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7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3-</a:t>
            </a:r>
            <a:fld id="{41873F19-8431-4998-ADEE-29EAB837EC1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01l03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9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3-</a:t>
            </a:r>
            <a:fld id="{EC579823-C9EF-45C7-95BF-3830EDD2D59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c01l03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3-</a:t>
            </a:r>
            <a:fld id="{32E56D03-CFA7-4997-8439-145EA16E14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c01l03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ftr" idx="1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3-</a:t>
            </a:r>
            <a:fld id="{E507F71D-D464-4FBA-95CA-A3C8E36F82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c01l03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15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3-</a:t>
            </a:r>
            <a:fld id="{813B6FE9-46E2-406B-B7A0-BBD5757A6D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c01l03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7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3-</a:t>
            </a:r>
            <a:fld id="{24020D58-8B14-4BFD-8C31-CB267478F9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C023C288-1287-4329-9EB1-3A7C6AF4254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682200" y="1622520"/>
            <a:ext cx="783900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use verbs, you will ne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learn about subject pronouns. A subject pronoun replaces the name or title of a person or thing and acts as the subject of a verb. In both Spanish and English, subject pronou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divided into three groups: first person, second person, and third per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3" descr="anteTodo"/>
          <p:cNvPicPr/>
          <p:nvPr/>
        </p:nvPicPr>
        <p:blipFill>
          <a:blip r:embed="rId1"/>
          <a:stretch/>
        </p:blipFill>
        <p:spPr>
          <a:xfrm>
            <a:off x="736560" y="2247840"/>
            <a:ext cx="167652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4139558B-AC1E-4586-92F9-853F69536D9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followed by the artic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two combine to form the contrac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c01l03_p020_05"/>
          <p:cNvPicPr/>
          <p:nvPr/>
        </p:nvPicPr>
        <p:blipFill>
          <a:blip r:embed="rId1"/>
          <a:stretch/>
        </p:blipFill>
        <p:spPr>
          <a:xfrm>
            <a:off x="457200" y="3086280"/>
            <a:ext cx="822960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4D454C96-FF4A-4930-AA52-8849CC83609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5" descr="c01l03_p021_01"/>
          <p:cNvPicPr/>
          <p:nvPr/>
        </p:nvPicPr>
        <p:blipFill>
          <a:blip r:embed="rId1"/>
          <a:stretch/>
        </p:blipFill>
        <p:spPr>
          <a:xfrm>
            <a:off x="812880" y="2108160"/>
            <a:ext cx="7442280" cy="276372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so uses the preposi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express ori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6" descr="c01l03_p021_02"/>
          <p:cNvPicPr/>
          <p:nvPr/>
        </p:nvPicPr>
        <p:blipFill>
          <a:blip r:embed="rId2"/>
          <a:stretch/>
        </p:blipFill>
        <p:spPr>
          <a:xfrm>
            <a:off x="765000" y="4813200"/>
            <a:ext cx="756612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5E27E727-301E-4ABC-84EA-CB370B36A39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ress profession or occup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c01l03_p021_03"/>
          <p:cNvPicPr/>
          <p:nvPr/>
        </p:nvPicPr>
        <p:blipFill>
          <a:blip r:embed="rId1"/>
          <a:stretch/>
        </p:blipFill>
        <p:spPr>
          <a:xfrm>
            <a:off x="457200" y="2362320"/>
            <a:ext cx="822960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34C68FB3-EA26-4E89-BDE0-2ACDAC59C4D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English, Spanish does not use the indefinite articl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f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eferring to professions, unless accompanied by an adjective or other descrip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7" descr="c01l03_p021_04"/>
          <p:cNvPicPr/>
          <p:nvPr/>
        </p:nvPicPr>
        <p:blipFill>
          <a:blip r:embed="rId1"/>
          <a:stretch/>
        </p:blipFill>
        <p:spPr>
          <a:xfrm>
            <a:off x="457200" y="3606840"/>
            <a:ext cx="82296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C8C33D9B-996C-485F-82C9-2D4CA2609B4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c01l03_p021_05"/>
          <p:cNvPicPr/>
          <p:nvPr/>
        </p:nvPicPr>
        <p:blipFill>
          <a:blip r:embed="rId1"/>
          <a:stretch/>
        </p:blipFill>
        <p:spPr>
          <a:xfrm>
            <a:off x="457200" y="1832040"/>
            <a:ext cx="82296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2FC758A6-7326-40ED-A63D-5CEFA83DAC4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571680" y="2144880"/>
          <a:ext cx="8029440" cy="3705120"/>
        </p:xfrm>
        <a:graphic>
          <a:graphicData uri="http://schemas.openxmlformats.org/drawingml/2006/table">
            <a:tbl>
              <a:tblPr/>
              <a:tblGrid>
                <a:gridCol w="3835080"/>
                <a:gridCol w="4194360"/>
              </a:tblGrid>
              <a:tr h="1463400">
                <a:tc gridSpan="2"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the correct subject pronouns and the present forms of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The first item has been done for you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172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345960" indent="-34596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briel _____ 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 indent="-34596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an y yo _____ _____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 indent="-34596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scar y Flora _____ _____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 indent="-34596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riana _____ _____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345960" indent="-34596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turistas _____ _____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 indent="-34596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chico _____ _____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 indent="-34596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conductores _____ _____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 indent="-34596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señores Ruiz _____ _____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  <p:sp>
        <p:nvSpPr>
          <p:cNvPr id="546" name="Text Box 147"/>
          <p:cNvSpPr/>
          <p:nvPr/>
        </p:nvSpPr>
        <p:spPr>
          <a:xfrm>
            <a:off x="2102760" y="3738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ff"/>
                </a:solidFill>
                <a:latin typeface="Comic Sans MS"/>
              </a:rPr>
              <a:t>é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166" descr="intentalo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6271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199"/>
          <p:cNvSpPr/>
          <p:nvPr/>
        </p:nvSpPr>
        <p:spPr>
          <a:xfrm>
            <a:off x="2890440" y="3738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ff"/>
                </a:solidFill>
                <a:latin typeface="Comic Sans MS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6610A660-48EC-4B22-A29D-AD576B7FD5F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8" descr="c01l03_p019_01"/>
          <p:cNvPicPr/>
          <p:nvPr/>
        </p:nvPicPr>
        <p:blipFill>
          <a:blip r:embed="rId1"/>
          <a:stretch/>
        </p:blipFill>
        <p:spPr>
          <a:xfrm>
            <a:off x="457200" y="1555920"/>
            <a:ext cx="82296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4A050E9E-5749-45FE-93B0-96DC7ED8EBD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has two subject pronouns that me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gular). 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ddressing a friend, a family member, or a child you know well. 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ddress a person with whom you have a formal or more distant relationship, such as a superior at work, a professor, or an older per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3" descr="c01l03_p019_02"/>
          <p:cNvPicPr/>
          <p:nvPr/>
        </p:nvPicPr>
        <p:blipFill>
          <a:blip r:embed="rId1"/>
          <a:stretch/>
        </p:blipFill>
        <p:spPr>
          <a:xfrm>
            <a:off x="457200" y="4832280"/>
            <a:ext cx="822960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3F4E13AC-C64D-4DCF-95C7-C683BD86D24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90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sculine plural for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sotr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l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 to a group of males or to a group of males and females. The feminine plural for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sotr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sotr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l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refer only to groups made up exclusively of fe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5" descr="c01l03_p019_03"/>
          <p:cNvPicPr/>
          <p:nvPr/>
        </p:nvPicPr>
        <p:blipFill>
          <a:blip r:embed="rId1"/>
          <a:stretch/>
        </p:blipFill>
        <p:spPr>
          <a:xfrm>
            <a:off x="457200" y="3638520"/>
            <a:ext cx="82296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C65ADC83-3778-4E99-B26F-0C41CF7D384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Spanish equivalent of the English subject pronou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General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expressed in Span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4" descr="c01l03_p019_04"/>
          <p:cNvPicPr/>
          <p:nvPr/>
        </p:nvPicPr>
        <p:blipFill>
          <a:blip r:embed="rId1"/>
          <a:stretch/>
        </p:blipFill>
        <p:spPr>
          <a:xfrm>
            <a:off x="457200" y="3079800"/>
            <a:ext cx="82296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8819468A-C2B6-4E0D-8FC2-CD8C62C0D9B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esent tense of 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xto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tonove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ou have already used several forms of the present tens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o identify yourself and others and to talk about where you and others are from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irregular verb, which means its forms don’t follow the regular patterns that most verbs follow. You need to memorize the for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3" descr="anteTodo"/>
          <p:cNvPicPr/>
          <p:nvPr/>
        </p:nvPicPr>
        <p:blipFill>
          <a:blip r:embed="rId1"/>
          <a:stretch/>
        </p:blipFill>
        <p:spPr>
          <a:xfrm>
            <a:off x="736560" y="2190600"/>
            <a:ext cx="167652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36C8D08C-3C2D-4675-BA12-8FA06249F7A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4" descr="c01l03_p020_01"/>
          <p:cNvPicPr/>
          <p:nvPr/>
        </p:nvPicPr>
        <p:blipFill>
          <a:blip r:embed="rId1"/>
          <a:stretch/>
        </p:blipFill>
        <p:spPr>
          <a:xfrm>
            <a:off x="457200" y="1839960"/>
            <a:ext cx="822960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90E5667A-4122-4C6B-B585-EB1F1AA8FB0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5" descr="c01l03_p020_02"/>
          <p:cNvPicPr/>
          <p:nvPr/>
        </p:nvPicPr>
        <p:blipFill>
          <a:blip r:embed="rId1"/>
          <a:stretch/>
        </p:blipFill>
        <p:spPr>
          <a:xfrm>
            <a:off x="457200" y="2714760"/>
            <a:ext cx="8229600" cy="1665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dentify people and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6" descr="c01l03_p020_03"/>
          <p:cNvPicPr/>
          <p:nvPr/>
        </p:nvPicPr>
        <p:blipFill>
          <a:blip r:embed="rId2"/>
          <a:stretch/>
        </p:blipFill>
        <p:spPr>
          <a:xfrm>
            <a:off x="457200" y="4273560"/>
            <a:ext cx="822960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3B9F6AD6-FDD9-4D13-B522-897CCB0D6E7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expresses possession, with the preposi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re is no Spanish equivalent of the English constru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+ ’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ite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In its place, Spanish uses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c01l03_p020_04"/>
          <p:cNvPicPr/>
          <p:nvPr/>
        </p:nvPicPr>
        <p:blipFill>
          <a:blip r:embed="rId1"/>
          <a:stretch/>
        </p:blipFill>
        <p:spPr>
          <a:xfrm>
            <a:off x="457200" y="3997440"/>
            <a:ext cx="82296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6:05Z</dcterms:created>
  <dc:creator>Jason Miranda</dc:creator>
  <dc:description/>
  <dc:language>en-US</dc:language>
  <cp:lastModifiedBy>Jose</cp:lastModifiedBy>
  <dcterms:modified xsi:type="dcterms:W3CDTF">2013-08-18T01:21:28Z</dcterms:modified>
  <cp:revision>54</cp:revision>
  <dc:subject/>
  <dc:title>PowerPoint Presentation</dc:title>
</cp:coreProperties>
</file>